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68B03F47-9CD3-478A-99F3-8466E645E9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59379556-DAE2-4C4B-851A-0DFDD8F8F079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2. nädal: arvuti riistva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3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CMOS: transistor pairs for low powe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9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Rectangle 6"/>
          <p:cNvSpPr/>
          <p:nvPr/>
        </p:nvSpPr>
        <p:spPr>
          <a:xfrm>
            <a:off x="568440" y="1066680"/>
            <a:ext cx="76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 transistors always in complementary P/N pair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witch only momentary, most of the time no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3867120" y="204804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762120" y="2184480"/>
            <a:ext cx="266688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verter (not gat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: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: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ne of the tw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ansistors is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ff, except for a sh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eriod during a swi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hotolit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a mask is made for each la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 mask is projected to a tiny area on the silicon wa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22936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C) or (B and (not C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0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562720" cy="516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mõne simulaatoriga; vaata loengu lisamaterjalidest ntx Ecki sim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ea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alternatiiv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simulaator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i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www.kolls.net/gatesim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circuitverse.org/simul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e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sisend- ja üks väljundju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1523880" y="1969920"/>
            <a:ext cx="67820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luli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bstraktsioonid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83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, komponendid, võrguvärk jms on vajalik ainult selleks, et arendaja saaks rakendusi kiiremini t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 mõtleb abstraktsioonide tasemel, aga lõpuks töötab kõik ikkagi transistorid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bstraktsioonid nö “tilguvad läbi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iga abstraktsiooni juures on vaja põhimõtteliselt aru saada, kuidas töötab alumine, vähem abstraktne ta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uarded 1-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kstra lüliti kiibi sisse või väljalülimise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1447920" y="1730520"/>
            <a:ext cx="609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dom-access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math.hws.edu/eck/js/xComputer/xComputer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S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, a la 65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24720" indent="-3247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720" indent="-3247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928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78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2378160" y="1901880"/>
            <a:ext cx="6613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468360" y="1908000"/>
            <a:ext cx="1828800" cy="375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aalse protsessori ehitus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 ja käs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 6502 : enimkasutatud protsessor esimestes mikroarvutites seitsmekümnendatel (Apple I, II, Atari, Commodore j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MOS_Technology_65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ama protsessori käsustiku üpris täpne simulaator &amp; hea õpi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ama protsessor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füüsiline simulaator brauser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www.visual6502.org/JSSim/index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85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Loogikalülituste ehitamine releedest, lampidest või transistorid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kroprotsessori füüsiline ehitu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Loogikalülitustest suuremate komponentide tege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älu ehi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sessori tööpõhimõt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ja käs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ptimeeringud reaalsetes protsess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i detaile ja arusaamist neist teemadest leiad loengust/videos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owerpoint detailidesse ei läh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äga erinevad arhitektuuritüü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ISC ehk complex instruction set: Intel ja AM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SC ehk reduced instruction set: ARM (mobiil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Graafikaprotsesso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90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65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0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1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" name="Straight Arrow Connector 39"/>
          <p:cNvCxnSpPr>
            <a:endCxn id="119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3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6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7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adiolambi tööpõhimõt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3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1143000" y="685800"/>
            <a:ext cx="6397560" cy="2587680"/>
            <a:chOff x="1143000" y="685800"/>
            <a:chExt cx="6397560" cy="2587680"/>
          </a:xfrm>
        </p:grpSpPr>
        <p:grpSp>
          <p:nvGrpSpPr>
            <p:cNvPr id="140" name="Group 7"/>
            <p:cNvGrpSpPr/>
            <p:nvPr/>
          </p:nvGrpSpPr>
          <p:grpSpPr>
            <a:xfrm>
              <a:off x="1143000" y="838080"/>
              <a:ext cx="4492800" cy="1664640"/>
              <a:chOff x="1143000" y="838080"/>
              <a:chExt cx="4492800" cy="1664640"/>
            </a:xfrm>
          </p:grpSpPr>
          <p:sp>
            <p:nvSpPr>
              <p:cNvPr id="141" name="AutoShape 8"/>
              <p:cNvSpPr/>
              <p:nvPr/>
            </p:nvSpPr>
            <p:spPr>
              <a:xfrm>
                <a:off x="1143000" y="838080"/>
                <a:ext cx="4492800" cy="159732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Text Box 9"/>
              <p:cNvSpPr/>
              <p:nvPr/>
            </p:nvSpPr>
            <p:spPr>
              <a:xfrm>
                <a:off x="1143000" y="838080"/>
                <a:ext cx="449280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Picture 10" descr=""/>
            <p:cNvPicPr/>
            <p:nvPr/>
          </p:nvPicPr>
          <p:blipFill>
            <a:blip r:embed="rId1"/>
            <a:stretch/>
          </p:blipFill>
          <p:spPr>
            <a:xfrm>
              <a:off x="6324480" y="685800"/>
              <a:ext cx="1216080" cy="258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11"/>
          <p:cNvGrpSpPr/>
          <p:nvPr/>
        </p:nvGrpSpPr>
        <p:grpSpPr>
          <a:xfrm>
            <a:off x="380880" y="3259080"/>
            <a:ext cx="8531280" cy="3138480"/>
            <a:chOff x="380880" y="3259080"/>
            <a:chExt cx="8531280" cy="3138480"/>
          </a:xfrm>
        </p:grpSpPr>
        <p:grpSp>
          <p:nvGrpSpPr>
            <p:cNvPr id="145" name="Group 12"/>
            <p:cNvGrpSpPr/>
            <p:nvPr/>
          </p:nvGrpSpPr>
          <p:grpSpPr>
            <a:xfrm>
              <a:off x="380880" y="3505320"/>
              <a:ext cx="4950000" cy="2892240"/>
              <a:chOff x="380880" y="3505320"/>
              <a:chExt cx="4950000" cy="2892240"/>
            </a:xfrm>
          </p:grpSpPr>
          <p:sp>
            <p:nvSpPr>
              <p:cNvPr id="146" name="AutoShape 13"/>
              <p:cNvSpPr/>
              <p:nvPr/>
            </p:nvSpPr>
            <p:spPr>
              <a:xfrm>
                <a:off x="380880" y="3505320"/>
                <a:ext cx="4950000" cy="28922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Text Box 14"/>
              <p:cNvSpPr/>
              <p:nvPr/>
            </p:nvSpPr>
            <p:spPr>
              <a:xfrm>
                <a:off x="380880" y="3505320"/>
                <a:ext cx="495000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15"/>
            <p:cNvGrpSpPr/>
            <p:nvPr/>
          </p:nvGrpSpPr>
          <p:grpSpPr>
            <a:xfrm>
              <a:off x="7010280" y="3259080"/>
              <a:ext cx="1901880" cy="2540520"/>
              <a:chOff x="7010280" y="3259080"/>
              <a:chExt cx="1901880" cy="2540520"/>
            </a:xfrm>
          </p:grpSpPr>
          <p:pic>
            <p:nvPicPr>
              <p:cNvPr id="149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259080"/>
                <a:ext cx="174960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7061040" y="5616720"/>
                <a:ext cx="106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Text Box 18"/>
              <p:cNvSpPr/>
              <p:nvPr/>
            </p:nvSpPr>
            <p:spPr>
              <a:xfrm>
                <a:off x="8102520" y="3263760"/>
                <a:ext cx="809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Text Box 19"/>
              <p:cNvSpPr/>
              <p:nvPr/>
            </p:nvSpPr>
            <p:spPr>
              <a:xfrm>
                <a:off x="7010280" y="3321000"/>
                <a:ext cx="530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947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Three scientists a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Bell Telephone Laboratori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, William Shockley, Walter Brattain, and John Bardeen demonstrate their new invention of the point-contact transistor amplifier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56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1-09-09T08:43:53Z</dcterms:modified>
  <cp:revision>23</cp:revision>
  <dc:subject/>
  <dc:title>PowerPoint Presentation</dc:title>
</cp:coreProperties>
</file>